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316-7C97-4AC1-AE91-D7568863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DED-F277-4043-B5C0-2C5CD7A8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E43-D18E-43A0-934C-F6FF7648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9F4-ECB4-46A9-9379-8A03BF7E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1C7-2C05-4D6A-9797-1366426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2A8-F9A5-4B37-9697-5B65F212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11C-74AF-4390-BBAD-B16EECB6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C6C-0B49-406B-842B-83C0BB3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AE8-D4CE-4557-9B16-C1F9BDE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58F-FD80-4B2A-9438-8A13491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50A-D277-4133-9713-07C3A3E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169-06AD-41FF-8061-FC1BE81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38F8-F6FD-4102-B10B-10F9659F6F2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9 Buď Bohu vžd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Bohu vždy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š zblúdený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milosťou k se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navrátiť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asenia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ynovi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a Baránkom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za hriešnych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svoj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asenia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uchu buď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privádza dne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lovu pravdy a stále ch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asenia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34:31Z</dcterms:modified>
  <cp:revision>6</cp:revision>
  <dc:subject/>
  <dc:title>Je veľký náš Pán, on slávy je Kráľ Nech do všetkých strán  spev vrúcnych znie chvál.</dc:title>
</cp:coreProperties>
</file>